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29.wmf" ContentType="image/x-wmf"/>
  <Override PartName="/ppt/media/image94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93E-8C7B-4044-8D7E-3ACFD7D8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288-1236-4DCD-B088-456F9AB7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E7D-2E62-445F-8FC6-EAA4F1DE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8E8-8BCC-449B-91E6-FE2619F7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CC54-A8AE-4113-A680-0EF8E354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FDA-4F3B-4F3E-B8AF-5586621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34D-D89C-42D8-BFE9-B2B62840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73A8-99E1-465D-905D-AD3FEC58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5C4-D123-4666-8FCD-8F40578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7F5F-CB9D-460F-ADF2-18709FB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40B-670D-4148-922D-724F43C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CCC-5ED8-40F5-BF8E-673C13D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AA8F-F05C-46C0-9519-3E171DD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0703-2FB1-42DC-B51C-FC875BA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82E-03BF-4183-8145-51C0471B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178-7D52-426F-9E7F-4AE5B27A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6D37-AAA9-4C88-ACEA-FCE91A3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B55-7B92-4ACD-960D-315D36F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0A8-0140-476F-8101-76149D72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023-31F4-489D-8E46-96BF41F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6C6-84AB-4B48-BDA0-ED66160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A36-FA41-40D9-8F71-917A9E9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D6C-5CE7-4BCC-95E0-10C2A0B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374-1488-47B3-9EDA-64AF5E7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46D-C102-4A7B-B4F1-359D3514AB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3CC4-9B69-4E75-B373-5E308B9F97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1436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пределители и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х сво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300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линейных уравнений с помощью правила Кра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Обратные матр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систем уравнений с помощью обратных матри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55640" y="5516640"/>
          <a:ext cx="19908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516640"/>
                    <a:ext cx="19908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7524720" y="44280"/>
          <a:ext cx="110160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44280"/>
                    <a:ext cx="1101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6732720" y="5516640"/>
          <a:ext cx="127476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516640"/>
                    <a:ext cx="12747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599840"/>
            <a:ext cx="8535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В качестве примера рассмотрим определитель третье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639880"/>
          <a:ext cx="777564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988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не меняется при замене в нем всех строк соответствующими (по номеру) столб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равен нулю, если содержит нулевую строку или нулевой столб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 равен  нулю,  если содержит две  одинаковые строки  или  два  одинаковых  столб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треуголь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55640" y="2643120"/>
          <a:ext cx="309564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43120"/>
                    <a:ext cx="30956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5003640" y="2643120"/>
          <a:ext cx="345600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643120"/>
                    <a:ext cx="34560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8"/>
          <p:cNvSpPr/>
          <p:nvPr/>
        </p:nvSpPr>
        <p:spPr>
          <a:xfrm>
            <a:off x="4141440" y="3499560"/>
            <a:ext cx="6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16000" y="2997360"/>
            <a:ext cx="223380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5435640" y="3068640"/>
            <a:ext cx="259236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800" y="508572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вен произведению элементов главной диагон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7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7. 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213920"/>
            <a:ext cx="8358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произведения квадратных матриц равен произведению определителей сомножителей.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Алгебраическим дополнением элемента        матрицы        порядка        называется число, р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спользуя алгебраическое дополнение, им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3429000" y="2286000"/>
          <a:ext cx="21477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2147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214720" y="3429000"/>
                <a:ext cx="50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6"/>
          <p:cNvGraphicFramePr/>
          <p:nvPr/>
        </p:nvGraphicFramePr>
        <p:xfrm>
          <a:off x="6000840" y="3571920"/>
          <a:ext cx="4014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571920"/>
                    <a:ext cx="401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143240" y="3571920"/>
          <a:ext cx="48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3571920"/>
                    <a:ext cx="4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2843280" y="4071960"/>
          <a:ext cx="58006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071960"/>
                    <a:ext cx="580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3092400" y="5022720"/>
          <a:ext cx="1919160" cy="107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2400" y="5022720"/>
                    <a:ext cx="19191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571760"/>
            <a:ext cx="806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усть           квадратная матрица           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диничная матрица того же поря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Объект 1"/>
          <p:cNvGraphicFramePr/>
          <p:nvPr/>
        </p:nvGraphicFramePr>
        <p:xfrm>
          <a:off x="2000160" y="1643040"/>
          <a:ext cx="80640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643040"/>
                    <a:ext cx="8064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29200" y="1714680"/>
          <a:ext cx="76536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1714680"/>
                    <a:ext cx="765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7286760" y="1714680"/>
          <a:ext cx="7030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6760" y="1714680"/>
                    <a:ext cx="703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Прямоугольник 7"/>
          <p:cNvSpPr/>
          <p:nvPr/>
        </p:nvSpPr>
        <p:spPr>
          <a:xfrm>
            <a:off x="500040" y="2857680"/>
            <a:ext cx="812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а           называется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обратной для квадратной матрицы ,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      такого же порядка, что и матрица          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для матрицы       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4429080" y="3000240"/>
          <a:ext cx="399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300024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7"/>
          <p:cNvGraphicFramePr/>
          <p:nvPr/>
        </p:nvGraphicFramePr>
        <p:xfrm>
          <a:off x="5824440" y="3500280"/>
          <a:ext cx="230040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4440" y="3500280"/>
                    <a:ext cx="2300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5214960" y="4071960"/>
          <a:ext cx="39996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4960" y="407196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2857680" y="4643280"/>
          <a:ext cx="401400" cy="43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4643280"/>
                    <a:ext cx="40140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5286240" y="5143680"/>
          <a:ext cx="40176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514368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"/>
          <p:cNvGraphicFramePr/>
          <p:nvPr/>
        </p:nvGraphicFramePr>
        <p:xfrm>
          <a:off x="7880400" y="5056200"/>
          <a:ext cx="736560" cy="5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0400" y="5056200"/>
                    <a:ext cx="736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2"/>
          <p:cNvGraphicFramePr/>
          <p:nvPr/>
        </p:nvGraphicFramePr>
        <p:xfrm>
          <a:off x="3143160" y="5643720"/>
          <a:ext cx="2844720" cy="53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5643720"/>
                    <a:ext cx="28447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1599840"/>
            <a:ext cx="8501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а 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невырожденной,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определитель этой матрицы отличен от ну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противном случае матрица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вырожденн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матрица         имеет обратную, то эта матрица является невырожденно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571680" y="2786040"/>
          <a:ext cx="12078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786040"/>
                    <a:ext cx="12078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4286160" y="4071960"/>
          <a:ext cx="4017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407196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5786280" y="4429080"/>
          <a:ext cx="1208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4429080"/>
                    <a:ext cx="1208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7"/>
          <p:cNvGraphicFramePr/>
          <p:nvPr/>
        </p:nvGraphicFramePr>
        <p:xfrm>
          <a:off x="3110040" y="4979880"/>
          <a:ext cx="1846080" cy="13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0040" y="4979880"/>
                    <a:ext cx="184608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сякая невырожденная матрица имеет обратную, пр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929040" y="2286000"/>
          <a:ext cx="373536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2286000"/>
                    <a:ext cx="37353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1500120" y="4059360"/>
          <a:ext cx="71604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059360"/>
                    <a:ext cx="7160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8001000" y="395748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Object 5"/>
          <p:cNvGraphicFramePr/>
          <p:nvPr/>
        </p:nvGraphicFramePr>
        <p:xfrm>
          <a:off x="2241720" y="4784760"/>
          <a:ext cx="40140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4784760"/>
                    <a:ext cx="401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братную матрицу можно вычислить по следующей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определителе         , транспонированной к матри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4500720" y="2143080"/>
          <a:ext cx="16002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43080"/>
                    <a:ext cx="16002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1255680" y="3414600"/>
          <a:ext cx="7444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5680" y="3414600"/>
                    <a:ext cx="744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715160" y="335772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0" name="Object 5"/>
          <p:cNvGraphicFramePr/>
          <p:nvPr/>
        </p:nvGraphicFramePr>
        <p:xfrm>
          <a:off x="714240" y="4714920"/>
          <a:ext cx="4017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4714920"/>
                    <a:ext cx="4017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3214800" y="4071960"/>
          <a:ext cx="4870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071960"/>
                    <a:ext cx="487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онятие определителя  (или детерминанта ) квадратной матрицы  порядка  , которое обозначается через           или      , введем индуктивным метод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ерейдем к индуктивному шагу: предположим, что нами уже введено понятие определителя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ответствующего произвольной квадратной матрице              го порядка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Объект 8"/>
              <p:cNvSpPr txBox="1"/>
              <p:nvPr/>
            </p:nvSpPr>
            <p:spPr>
              <a:xfrm>
                <a:off x="6300720" y="191628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Объект 9"/>
              <p:cNvSpPr txBox="1"/>
              <p:nvPr/>
            </p:nvSpPr>
            <p:spPr>
              <a:xfrm>
                <a:off x="4211640" y="191628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10"/>
              <p:cNvSpPr txBox="1"/>
              <p:nvPr/>
            </p:nvSpPr>
            <p:spPr>
              <a:xfrm>
                <a:off x="3983040" y="2276640"/>
                <a:ext cx="733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Объект 11"/>
              <p:cNvSpPr txBox="1"/>
              <p:nvPr/>
            </p:nvSpPr>
            <p:spPr>
              <a:xfrm>
                <a:off x="6194520" y="220500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Объект 12"/>
              <p:cNvSpPr txBox="1"/>
              <p:nvPr/>
            </p:nvSpPr>
            <p:spPr>
              <a:xfrm>
                <a:off x="2411280" y="2997360"/>
                <a:ext cx="2016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6" name="Объект 15"/>
          <p:cNvGraphicFramePr/>
          <p:nvPr/>
        </p:nvGraphicFramePr>
        <p:xfrm>
          <a:off x="3708360" y="3357720"/>
          <a:ext cx="355428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3554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Объект 16"/>
              <p:cNvSpPr txBox="1"/>
              <p:nvPr/>
            </p:nvSpPr>
            <p:spPr>
              <a:xfrm>
                <a:off x="2411280" y="3860640"/>
                <a:ext cx="7336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7"/>
              <p:cNvSpPr txBox="1"/>
              <p:nvPr/>
            </p:nvSpPr>
            <p:spPr>
              <a:xfrm>
                <a:off x="755640" y="5157720"/>
                <a:ext cx="62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18"/>
              <p:cNvSpPr txBox="1"/>
              <p:nvPr/>
            </p:nvSpPr>
            <p:spPr>
              <a:xfrm>
                <a:off x="1979640" y="551664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ти матрицу, обратную да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определитель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3000240" y="2071800"/>
          <a:ext cx="25257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071800"/>
                    <a:ext cx="2525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714240" y="4357800"/>
          <a:ext cx="77472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357800"/>
                    <a:ext cx="774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428480"/>
            <a:ext cx="82864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428760" y="1428840"/>
          <a:ext cx="28699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8840"/>
                    <a:ext cx="28699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Box 5"/>
          <p:cNvSpPr/>
          <p:nvPr/>
        </p:nvSpPr>
        <p:spPr>
          <a:xfrm>
            <a:off x="3305880" y="15717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алгебраические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4786200" y="2143080"/>
          <a:ext cx="487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143080"/>
                    <a:ext cx="487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785880" y="3201840"/>
          <a:ext cx="7405560" cy="301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3201840"/>
                    <a:ext cx="7405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оставляем обратную матр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785880" y="2286000"/>
          <a:ext cx="521028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286000"/>
                    <a:ext cx="521028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"/>
          <p:cNvGraphicFramePr/>
          <p:nvPr/>
        </p:nvGraphicFramePr>
        <p:xfrm>
          <a:off x="785880" y="3929040"/>
          <a:ext cx="641664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3929040"/>
                    <a:ext cx="64166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оведем проверку, умн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5572080" y="1643040"/>
          <a:ext cx="1781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643040"/>
                    <a:ext cx="1781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5"/>
          <p:cNvGraphicFramePr/>
          <p:nvPr/>
        </p:nvGraphicFramePr>
        <p:xfrm>
          <a:off x="1071720" y="2214720"/>
          <a:ext cx="25254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2214720"/>
                    <a:ext cx="25254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6"/>
          <p:cNvGraphicFramePr/>
          <p:nvPr/>
        </p:nvGraphicFramePr>
        <p:xfrm>
          <a:off x="4286160" y="2357280"/>
          <a:ext cx="340056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357280"/>
                    <a:ext cx="34005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2714760" y="4143240"/>
          <a:ext cx="3290760" cy="153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4143240"/>
                    <a:ext cx="32907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и            матрицы поря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решение матрич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квадратная матрица порядка    , находится по соответствующей из форм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Объект 1"/>
              <p:cNvSpPr txBox="1"/>
              <p:nvPr/>
            </p:nvSpPr>
            <p:spPr>
              <a:xfrm>
                <a:off x="3419640" y="1557360"/>
                <a:ext cx="86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Объект 2"/>
              <p:cNvSpPr txBox="1"/>
              <p:nvPr/>
            </p:nvSpPr>
            <p:spPr>
              <a:xfrm>
                <a:off x="4643280" y="1628640"/>
                <a:ext cx="865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Объект 3"/>
              <p:cNvSpPr txBox="1"/>
              <p:nvPr/>
            </p:nvSpPr>
            <p:spPr>
              <a:xfrm>
                <a:off x="8172360" y="1700280"/>
                <a:ext cx="263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Объект 4"/>
              <p:cNvSpPr txBox="1"/>
              <p:nvPr/>
            </p:nvSpPr>
            <p:spPr>
              <a:xfrm>
                <a:off x="2700360" y="2717640"/>
                <a:ext cx="3251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Объект 5"/>
              <p:cNvSpPr txBox="1"/>
              <p:nvPr/>
            </p:nvSpPr>
            <p:spPr>
              <a:xfrm>
                <a:off x="1258920" y="3429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Объект 6"/>
              <p:cNvSpPr txBox="1"/>
              <p:nvPr/>
            </p:nvSpPr>
            <p:spPr>
              <a:xfrm>
                <a:off x="6156360" y="3500280"/>
                <a:ext cx="263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Объект 7"/>
              <p:cNvSpPr txBox="1"/>
              <p:nvPr/>
            </p:nvSpPr>
            <p:spPr>
              <a:xfrm>
                <a:off x="2700360" y="4437000"/>
                <a:ext cx="36702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и              ,где                   матрицы размерностью                                соответственно ,то решение матрич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матрица размерности             находится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Объект 1"/>
              <p:cNvSpPr txBox="1"/>
              <p:nvPr/>
            </p:nvSpPr>
            <p:spPr>
              <a:xfrm>
                <a:off x="3419640" y="1747800"/>
                <a:ext cx="865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2"/>
              <p:cNvSpPr txBox="1"/>
              <p:nvPr/>
            </p:nvSpPr>
            <p:spPr>
              <a:xfrm>
                <a:off x="6462720" y="1781280"/>
                <a:ext cx="1204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3"/>
              <p:cNvSpPr txBox="1"/>
              <p:nvPr/>
            </p:nvSpPr>
            <p:spPr>
              <a:xfrm>
                <a:off x="4572000" y="2349360"/>
                <a:ext cx="2319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4"/>
              <p:cNvSpPr txBox="1"/>
              <p:nvPr/>
            </p:nvSpPr>
            <p:spPr>
              <a:xfrm>
                <a:off x="2916360" y="3573360"/>
                <a:ext cx="1704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1258920" y="4221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6"/>
              <p:cNvSpPr txBox="1"/>
              <p:nvPr/>
            </p:nvSpPr>
            <p:spPr>
              <a:xfrm>
                <a:off x="5268960" y="4308480"/>
                <a:ext cx="81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7"/>
              <p:cNvSpPr txBox="1"/>
              <p:nvPr/>
            </p:nvSpPr>
            <p:spPr>
              <a:xfrm>
                <a:off x="3473280" y="5091120"/>
                <a:ext cx="2124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4716360" y="1747800"/>
                <a:ext cx="89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С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77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Решить матрич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5"/>
              <p:cNvSpPr txBox="1"/>
              <p:nvPr/>
            </p:nvSpPr>
            <p:spPr>
              <a:xfrm>
                <a:off x="1403280" y="2025720"/>
                <a:ext cx="46180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8"/>
              <p:cNvSpPr txBox="1"/>
              <p:nvPr/>
            </p:nvSpPr>
            <p:spPr>
              <a:xfrm>
                <a:off x="3929040" y="2886120"/>
                <a:ext cx="498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9"/>
              <p:cNvSpPr txBox="1"/>
              <p:nvPr/>
            </p:nvSpPr>
            <p:spPr>
              <a:xfrm>
                <a:off x="934920" y="3357720"/>
                <a:ext cx="6172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10"/>
              <p:cNvSpPr txBox="1"/>
              <p:nvPr/>
            </p:nvSpPr>
            <p:spPr>
              <a:xfrm>
                <a:off x="1119240" y="4508640"/>
                <a:ext cx="1619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Объект 11"/>
              <p:cNvSpPr txBox="1"/>
              <p:nvPr/>
            </p:nvSpPr>
            <p:spPr>
              <a:xfrm>
                <a:off x="3073320" y="4365720"/>
                <a:ext cx="410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12"/>
              <p:cNvSpPr txBox="1"/>
              <p:nvPr/>
            </p:nvSpPr>
            <p:spPr>
              <a:xfrm>
                <a:off x="1908000" y="5373720"/>
                <a:ext cx="4208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истемой линейных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ей из двух уравнений с двумя неизвестны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тся система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2598840" y="3849840"/>
          <a:ext cx="41130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8840" y="3849840"/>
                    <a:ext cx="41130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8030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                              некоторые постоянные действите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1692360" y="1484280"/>
          <a:ext cx="23032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84280"/>
                    <a:ext cx="2303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3348000" y="2143080"/>
            <a:ext cx="53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95280" y="1962720"/>
            <a:ext cx="8177400" cy="71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 п р е д е л е н и е  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рицей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1); вект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лбцом свобод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ле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)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                       столбцом неизвес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11"/>
          <p:cNvGraphicFramePr/>
          <p:nvPr/>
        </p:nvGraphicFramePr>
        <p:xfrm>
          <a:off x="6143760" y="2143080"/>
          <a:ext cx="194472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143080"/>
                    <a:ext cx="1944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642960" y="3571920"/>
          <a:ext cx="1368360" cy="11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71920"/>
                    <a:ext cx="13683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4"/>
          <p:cNvGraphicFramePr/>
          <p:nvPr/>
        </p:nvGraphicFramePr>
        <p:xfrm>
          <a:off x="1979640" y="4581360"/>
          <a:ext cx="165564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81360"/>
                    <a:ext cx="1655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68360" y="15782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1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о Кр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 Если определитель матрицы системы (1) не равен нулю, то система (1) имеет единственное решение, вычисляемое по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2357280" y="3000240"/>
          <a:ext cx="136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136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4643280" y="3000240"/>
          <a:ext cx="1511280" cy="12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000240"/>
                    <a:ext cx="151128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1116000" y="4500720"/>
          <a:ext cx="108108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00720"/>
                    <a:ext cx="1081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3"/>
          <p:cNvGraphicFramePr/>
          <p:nvPr/>
        </p:nvGraphicFramePr>
        <p:xfrm>
          <a:off x="2627280" y="4543560"/>
          <a:ext cx="194472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43560"/>
                    <a:ext cx="1944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2"/>
          <p:cNvGraphicFramePr/>
          <p:nvPr/>
        </p:nvGraphicFramePr>
        <p:xfrm>
          <a:off x="5500800" y="5072040"/>
          <a:ext cx="395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0800" y="5072040"/>
                    <a:ext cx="395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5"/>
          <p:cNvSpPr/>
          <p:nvPr/>
        </p:nvSpPr>
        <p:spPr>
          <a:xfrm>
            <a:off x="493920" y="45730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    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925720" y="3098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428760" y="5101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ли, полученные  из              заменой 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528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Минором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которого элемента        матрицы     порядка      называется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, соответствующий матрице, которая получается из исходной матрицы       в результате вычеркивания той строки и того столбца, на пересечении которых стоит элемент       , т.е.         строки и       го столб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инор элемента       обозначается        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минора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7"/>
              <p:cNvSpPr txBox="1"/>
              <p:nvPr/>
            </p:nvSpPr>
            <p:spPr>
              <a:xfrm>
                <a:off x="7596360" y="155736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1"/>
              <p:cNvSpPr txBox="1"/>
              <p:nvPr/>
            </p:nvSpPr>
            <p:spPr>
              <a:xfrm>
                <a:off x="1954080" y="200664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4"/>
              <p:cNvSpPr txBox="1"/>
              <p:nvPr/>
            </p:nvSpPr>
            <p:spPr>
              <a:xfrm>
                <a:off x="3635280" y="206064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Объект 5"/>
              <p:cNvSpPr txBox="1"/>
              <p:nvPr/>
            </p:nvSpPr>
            <p:spPr>
              <a:xfrm>
                <a:off x="571680" y="242100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Объект 6"/>
              <p:cNvSpPr txBox="1"/>
              <p:nvPr/>
            </p:nvSpPr>
            <p:spPr>
              <a:xfrm>
                <a:off x="5651640" y="2852640"/>
                <a:ext cx="314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6012000" y="3500280"/>
                <a:ext cx="366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8"/>
              <p:cNvSpPr txBox="1"/>
              <p:nvPr/>
            </p:nvSpPr>
            <p:spPr>
              <a:xfrm>
                <a:off x="7248600" y="3573360"/>
                <a:ext cx="419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Объект 9"/>
              <p:cNvSpPr txBox="1"/>
              <p:nvPr/>
            </p:nvSpPr>
            <p:spPr>
              <a:xfrm>
                <a:off x="1979640" y="3933720"/>
                <a:ext cx="498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Объект 10"/>
              <p:cNvSpPr txBox="1"/>
              <p:nvPr/>
            </p:nvSpPr>
            <p:spPr>
              <a:xfrm>
                <a:off x="3203640" y="429732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11"/>
              <p:cNvSpPr txBox="1"/>
              <p:nvPr/>
            </p:nvSpPr>
            <p:spPr>
              <a:xfrm>
                <a:off x="5724360" y="4297320"/>
                <a:ext cx="524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системы (1)          ,  но хотя бы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пределителей         или       отличен от нуля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(1) не имеет решения.  Если у системы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истема (1) имеет беско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5000760" y="1706400"/>
          <a:ext cx="8953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706400"/>
                    <a:ext cx="895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6"/>
          <p:cNvGraphicFramePr/>
          <p:nvPr/>
        </p:nvGraphicFramePr>
        <p:xfrm>
          <a:off x="3214800" y="2286000"/>
          <a:ext cx="4474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447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8"/>
          <p:cNvGraphicFramePr/>
          <p:nvPr/>
        </p:nvGraphicFramePr>
        <p:xfrm>
          <a:off x="4500720" y="2286000"/>
          <a:ext cx="525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286000"/>
                    <a:ext cx="525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10"/>
          <p:cNvGraphicFramePr/>
          <p:nvPr/>
        </p:nvGraphicFramePr>
        <p:xfrm>
          <a:off x="642960" y="3500280"/>
          <a:ext cx="244800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500280"/>
                    <a:ext cx="2448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3.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Системой линейных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уравнений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стоящей из трех уравнений с т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известным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3000240" y="3200400"/>
          <a:ext cx="33847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200400"/>
                    <a:ext cx="33847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8"/>
          <p:cNvSpPr/>
          <p:nvPr/>
        </p:nvSpPr>
        <p:spPr>
          <a:xfrm>
            <a:off x="857160" y="4961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42960" y="5563800"/>
            <a:ext cx="78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–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которые постоянные действитель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11"/>
          <p:cNvGraphicFramePr/>
          <p:nvPr/>
        </p:nvGraphicFramePr>
        <p:xfrm>
          <a:off x="1928880" y="4994280"/>
          <a:ext cx="24494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994280"/>
                    <a:ext cx="24494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4"/>
          <p:cNvSpPr/>
          <p:nvPr/>
        </p:nvSpPr>
        <p:spPr>
          <a:xfrm>
            <a:off x="7500960" y="349200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428760" y="151272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4.  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Матрицей системы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2), столбцом свободных членов системы (2) и столбцом неизвестных системы (2)  называются, соответственно, матрица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2d050"/>
                </a:solidFill>
                <a:latin typeface="Arial"/>
              </a:rPr>
              <a:t>A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39640" y="4111560"/>
          <a:ext cx="33037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11560"/>
                    <a:ext cx="33037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643040" y="3214800"/>
          <a:ext cx="34920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214800"/>
                    <a:ext cx="349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4"/>
          <p:cNvGraphicFramePr/>
          <p:nvPr/>
        </p:nvGraphicFramePr>
        <p:xfrm>
          <a:off x="3786120" y="3286080"/>
          <a:ext cx="31752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3286080"/>
                    <a:ext cx="317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4075200" y="4257720"/>
          <a:ext cx="121608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5200" y="4257720"/>
                    <a:ext cx="12160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0840" y="4143240"/>
          <a:ext cx="1214280" cy="165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4143240"/>
                    <a:ext cx="12142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17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правило Крамера).  Если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системы (2) не равен нулю, то систем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меет единственное решение, вычисляем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формул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и, полученные из         заменой  его 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-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73240" y="46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5"/>
          <p:cNvGraphicFramePr/>
          <p:nvPr/>
        </p:nvGraphicFramePr>
        <p:xfrm>
          <a:off x="2286000" y="2857680"/>
          <a:ext cx="16002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57680"/>
                    <a:ext cx="16002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4"/>
          <p:cNvGraphicFramePr/>
          <p:nvPr/>
        </p:nvGraphicFramePr>
        <p:xfrm>
          <a:off x="4143240" y="2928960"/>
          <a:ext cx="149076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2928960"/>
                    <a:ext cx="1490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3"/>
          <p:cNvGraphicFramePr/>
          <p:nvPr/>
        </p:nvGraphicFramePr>
        <p:xfrm>
          <a:off x="5857920" y="2928960"/>
          <a:ext cx="160020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2928960"/>
                    <a:ext cx="1600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4592520" y="2856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4592520" y="3510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4609800" y="41648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285920" y="3857760"/>
          <a:ext cx="1361880" cy="73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857760"/>
                    <a:ext cx="136188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5"/>
          <p:cNvGraphicFramePr/>
          <p:nvPr/>
        </p:nvGraphicFramePr>
        <p:xfrm>
          <a:off x="3500280" y="3929040"/>
          <a:ext cx="22323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929040"/>
                    <a:ext cx="223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4"/>
          <p:cNvGraphicFramePr/>
          <p:nvPr/>
        </p:nvGraphicFramePr>
        <p:xfrm>
          <a:off x="4929120" y="4429080"/>
          <a:ext cx="44604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44290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571400"/>
            <a:ext cx="8104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у системы (2)                  , но хо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ы один из определителей       ,      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личен от нуля, то система (2) не имеет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выполнены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 система (2) или имеет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10072800" y="1928880"/>
          <a:ext cx="44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72800" y="19288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10"/>
          <p:cNvSpPr/>
          <p:nvPr/>
        </p:nvSpPr>
        <p:spPr>
          <a:xfrm>
            <a:off x="397080" y="206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11"/>
          <p:cNvGraphicFramePr/>
          <p:nvPr/>
        </p:nvGraphicFramePr>
        <p:xfrm>
          <a:off x="5500800" y="1643040"/>
          <a:ext cx="10080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1643040"/>
                    <a:ext cx="1008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3"/>
          <p:cNvGraphicFramePr/>
          <p:nvPr/>
        </p:nvGraphicFramePr>
        <p:xfrm>
          <a:off x="4643280" y="2286000"/>
          <a:ext cx="438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286000"/>
                    <a:ext cx="43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5"/>
          <p:cNvGraphicFramePr/>
          <p:nvPr/>
        </p:nvGraphicFramePr>
        <p:xfrm>
          <a:off x="5286240" y="2286000"/>
          <a:ext cx="459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2286000"/>
                    <a:ext cx="459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7"/>
          <p:cNvGraphicFramePr/>
          <p:nvPr/>
        </p:nvGraphicFramePr>
        <p:xfrm>
          <a:off x="6858000" y="2286000"/>
          <a:ext cx="4413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286000"/>
                    <a:ext cx="441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9"/>
          <p:cNvGraphicFramePr/>
          <p:nvPr/>
        </p:nvGraphicFramePr>
        <p:xfrm>
          <a:off x="4714920" y="3500280"/>
          <a:ext cx="31687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4920" y="3500280"/>
                    <a:ext cx="3168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мер  1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истему: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примере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5003640" y="1341360"/>
          <a:ext cx="21607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21607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7"/>
          <p:cNvGraphicFramePr/>
          <p:nvPr/>
        </p:nvGraphicFramePr>
        <p:xfrm>
          <a:off x="5435640" y="2924280"/>
          <a:ext cx="107640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10764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6"/>
          <p:cNvGraphicFramePr/>
          <p:nvPr/>
        </p:nvGraphicFramePr>
        <p:xfrm>
          <a:off x="611280" y="2924280"/>
          <a:ext cx="396072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24280"/>
                    <a:ext cx="3960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8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4522320" y="318384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4645080" y="4142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11"/>
          <p:cNvGraphicFramePr/>
          <p:nvPr/>
        </p:nvGraphicFramePr>
        <p:xfrm>
          <a:off x="684360" y="4437000"/>
          <a:ext cx="410508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437000"/>
                    <a:ext cx="4105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3"/>
          <p:cNvSpPr/>
          <p:nvPr/>
        </p:nvSpPr>
        <p:spPr>
          <a:xfrm>
            <a:off x="755640" y="515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6"/>
          <p:cNvGraphicFramePr/>
          <p:nvPr/>
        </p:nvGraphicFramePr>
        <p:xfrm>
          <a:off x="395280" y="1506600"/>
          <a:ext cx="2521080" cy="14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06600"/>
                    <a:ext cx="252108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"/>
          <p:cNvGraphicFramePr/>
          <p:nvPr/>
        </p:nvGraphicFramePr>
        <p:xfrm>
          <a:off x="3132000" y="1500120"/>
          <a:ext cx="273528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00120"/>
                    <a:ext cx="27352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6084720" y="1533600"/>
          <a:ext cx="2448000" cy="16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533600"/>
                    <a:ext cx="244800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82520" y="713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82520" y="16725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8108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1800" y="325404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сюд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539640" y="4084560"/>
          <a:ext cx="7993080" cy="9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084560"/>
                    <a:ext cx="7993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пределителем          -го порядка, соответствующим м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называется число, р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и обозначаемое                 ,  либ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52e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5786280" y="1428840"/>
                <a:ext cx="43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4"/>
          <p:cNvGraphicFramePr/>
          <p:nvPr/>
        </p:nvGraphicFramePr>
        <p:xfrm>
          <a:off x="3071880" y="2214720"/>
          <a:ext cx="29638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214720"/>
                    <a:ext cx="29638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928800" y="4357800"/>
          <a:ext cx="7002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357800"/>
                    <a:ext cx="7002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Объект 10"/>
              <p:cNvSpPr txBox="1"/>
              <p:nvPr/>
            </p:nvSpPr>
            <p:spPr>
              <a:xfrm>
                <a:off x="3357720" y="5286240"/>
                <a:ext cx="914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11"/>
              <p:cNvSpPr txBox="1"/>
              <p:nvPr/>
            </p:nvSpPr>
            <p:spPr>
              <a:xfrm>
                <a:off x="5535720" y="528624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1057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928800" y="1643040"/>
          <a:ext cx="71658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1658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8"/>
          <p:cNvSpPr/>
          <p:nvPr/>
        </p:nvSpPr>
        <p:spPr>
          <a:xfrm>
            <a:off x="500040" y="4071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перв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4"/>
          <p:cNvGraphicFramePr/>
          <p:nvPr/>
        </p:nvGraphicFramePr>
        <p:xfrm>
          <a:off x="539640" y="4454640"/>
          <a:ext cx="8175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45464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54000" y="1469880"/>
          <a:ext cx="7740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469880"/>
                    <a:ext cx="7740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1042920" y="3213000"/>
          <a:ext cx="698508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213000"/>
                    <a:ext cx="6985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971640" y="4653000"/>
          <a:ext cx="3816360" cy="14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653000"/>
                    <a:ext cx="38163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10"/>
          <p:cNvSpPr/>
          <p:nvPr/>
        </p:nvSpPr>
        <p:spPr>
          <a:xfrm>
            <a:off x="7596360" y="51426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1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500040" y="2143080"/>
          <a:ext cx="21844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571680" y="3193920"/>
          <a:ext cx="719424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193920"/>
                    <a:ext cx="719424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357720" y="5214960"/>
          <a:ext cx="87444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214960"/>
                    <a:ext cx="874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2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Объект 4"/>
          <p:cNvGraphicFramePr/>
          <p:nvPr/>
        </p:nvGraphicFramePr>
        <p:xfrm>
          <a:off x="412920" y="2143080"/>
          <a:ext cx="235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143080"/>
                    <a:ext cx="235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03200" y="3222720"/>
          <a:ext cx="753264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3222720"/>
                    <a:ext cx="75326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олб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3286080" y="5186520"/>
          <a:ext cx="10191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5186520"/>
                    <a:ext cx="1019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Определитель может быть вычислен разложением по элементам его    л ю б о й    строки или столб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Замечание.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используют те же термины (элементы, строки, столбцы, главная и побочная диагонали), что и для соответствующей квадратной матрицы, чей определитель вычис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str-18-213-17</cp:lastModifiedBy>
  <dcterms:modified xsi:type="dcterms:W3CDTF">2014-10-10T06:13:55Z</dcterms:modified>
  <cp:revision>81</cp:revision>
  <dc:subject/>
  <dc:title>Определители второго и третьего порядка.</dc:title>
</cp:coreProperties>
</file>